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DAB4B2-6C6C-4758-92D0-C88D34E13B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C9A8748-67F2-46F8-815E-664907845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BDA3D3-7B7B-45E1-84D1-2CF8750B5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7EE-ADF0-43F9-8B35-4F623676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36B-0A50-4F05-A07A-11CD6FBD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23A-5689-4F6E-8DDE-55CF8247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961-2650-44EE-B116-5F785E07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0E4-2D7E-405F-8B08-AA195EB4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F39-3635-48BF-85D7-F37D1A7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574-2194-4A99-86B6-2516523F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CA9-CE97-4C45-AD6A-4E9C2C25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134-4F81-4D8B-89B2-4471BA1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969-60C0-4BA0-BF9B-2DAEEB5A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262-129E-46FE-AADA-DBA5FC88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CE35-4B1E-4BA1-82F9-1D2D742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A5F5A08-7978-422E-A70E-3230A5723514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052046-DDAE-465B-A678-46E5E21AC620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04920" y="914400"/>
            <a:ext cx="216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all nouns as plural possessiv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ample: the kings’ crow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ctionary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ok up 6 spelling words in the dictionary. List their guide words (from the top of the pa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xt organization. Decide what spelling words belong together. Group them into, at least, two groups. Provide a title for each grou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: r- controlled with “or” ie. born, “ore” ie. sn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70572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be answered by a storie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519360" y="990720"/>
            <a:ext cx="2562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each word in cursive tw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about a person in your family. Include when &amp; where they were born, information about their childhood, and their career choic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Biographies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2:38:54Z</dcterms:created>
  <dc:creator> </dc:creator>
  <dc:description/>
  <dc:language>en-US</dc:language>
  <cp:lastModifiedBy>Kathryn Cobb</cp:lastModifiedBy>
  <cp:lastPrinted>2009-02-27T12:20:35Z</cp:lastPrinted>
  <dcterms:modified xsi:type="dcterms:W3CDTF">2009-02-27T12:21:02Z</dcterms:modified>
  <cp:revision>5</cp:revision>
  <dc:subject/>
  <dc:title>Slide 1</dc:title>
</cp:coreProperties>
</file>